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766-A5DD-48EB-9011-A7462D33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C5C-E6F9-41FA-888D-1CD9AF44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5F0C8-CEA6-4A38-B737-35C8C714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64454-10A0-4BB7-B3DB-1BF34A74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3010B-65FA-4E9A-8358-41987907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453EB-6F58-4E2C-96D3-F42083EA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D2632-3C9D-4409-8DA2-A18F43A9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C79CB-CAB4-4A1E-9F2B-F860A144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F3CBE-ECCF-4271-A34D-B80E3233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775D0-A919-477B-8059-6DA5AF8D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C3F42-6E4E-40BB-8665-BF12F6FF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79E96-8087-4D3E-92E2-04F13C58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523-AF06-4BB1-BD3A-A65E9F00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D74FB-A775-4ED2-A55F-304FF87E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19524-D129-4D66-9E45-30E0E5C0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EC64E-B6D0-4174-9B4E-F60354D1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5EE36-D946-49E8-969A-94C7C127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C17FB-B2AC-4B6D-83A4-5FE0CEF8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8631C-F9BD-4AB1-BC0D-1A77FD4F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6F830-4B06-4384-A1CF-5639F0B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A7891-8330-4152-BE0F-2B4A69F8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E1581-0978-4E9D-9452-3EA18041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0D185-5880-4B47-A59E-FB8896A4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8AC-3C99-45FF-BC9F-10864D1E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1D5D3-14C6-4561-9730-38B54B90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1C880-73E2-4449-8901-C09FEF7C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E63AB-B8EF-4A21-A548-D4C25D34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82706-A454-40D2-BF7C-698F4742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6D461-EEE4-4933-B183-B208EF42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0AD60-36FB-407E-BD4A-C118F971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6C371-4AB6-4578-A8F3-407F390A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6142C-D3EE-413C-9A77-12F70465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D4FA0-FA1B-447F-996E-8F00990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22371-E1C4-4B9D-A16A-43F6D60C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F4CE-D303-4D7A-BEF0-268F1876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EFB82-4222-4DF7-BBB4-998D1321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56A16-DCDC-4247-8572-273F6562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7EE6B-9D5A-406C-81AA-E563CC99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E31A3-C226-44D2-A6F6-9579775F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9E166-D202-481C-BBE5-7284C7BA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CBB36-E912-4AE8-A008-BDD190D5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267F0-F248-40B1-B449-7E509D56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18F67-8BD3-485B-93D9-9EAA1918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159FE-6926-44CD-BCE0-010EE278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0DCE2-8E64-4E87-92DE-766AD9EB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D81B-6DA7-4C7E-90B5-7858C28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3736B-BCBC-4A38-A874-EB0CCB81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E9ED4-66E1-4ED1-A5F0-E1E7DD64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B6542-F034-40B5-81BC-CC214B3C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FFB7A-C209-4826-A017-B7E48214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C6A56-0F71-4514-83E5-EFBDD50E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53876-82AB-4D1C-89C3-40D29C5C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32C6D-F1AE-4F39-94E1-1B8ECFF9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F9910-2240-4D60-9DF0-F2B5BF62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19A76-8B22-4526-ABD9-391878F5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FC5DD-DFE2-44FA-B49F-3465AF3F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6A8C-1A57-4971-AA81-7D9BC5D8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205D5-3953-4D9B-9D80-BA1A6B75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1976F-BF38-48CC-B394-9F84B4C2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8C4D4-FE34-44E4-BAD8-DE34A68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0A45A-86F1-497C-99EC-22040D08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28BD9-4A2F-4FE5-A6D2-5F4E991E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DB681-8F6F-4DEF-9119-001F66DA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A69BC-3C35-4088-9FED-E10E0BDC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CD1C51-25DA-43AE-9FF7-86BA54CA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EF884B-A0F7-48A4-8CC7-D5847CC8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FB7796-D210-489E-A4BB-D19052C9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A501-DE55-43C8-9198-C8F02A05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090559-B72E-4E4E-8FBE-B52C7E92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3F75D6-149F-4B8D-8BD8-8FC9FA6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1E9AC6-C1B2-4BBE-9972-57114C12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92853D-A811-4840-AC21-C1EFC8F1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73A9EE-F356-436B-B5AF-4A864133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361126-149D-4BEB-AA1F-4732832C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0B58E6-EF8D-4CBA-B2F0-D733C513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286ACD-31E1-48DC-B35C-EE4A0B4A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AFA8B6-30B2-4222-9604-C5792EBB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A0AE47-D4CC-425F-B919-2C58FBDF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6E98-E179-499C-B4AC-CC13E73C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07C315-026D-4B29-8D07-1B075FDD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B9F89F-8A13-4454-AA95-0C44BF1A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DAC617-B99C-4AC4-9FF6-E7E5709B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76567A-B82D-49DB-B3A8-EEF9A408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8F1ED3-9047-4AD1-B9EE-919D11F0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C9A217-196F-41C6-B041-011B13E2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0EC931-E9C0-4B3C-A443-29779BB0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673CAD-5DF7-4D34-AC9A-2AF11E45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27F634-2AD0-4ECF-8E84-4EAC8813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185B36-5FB3-46BF-A787-5EC339D8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3E48-1D9E-4988-863F-4B1D1312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77327A-09B9-4B6E-BC23-81162DD5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13148-4DA0-4622-A253-6B4072EF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DB2E2-30E1-4E2C-8CF7-358A1550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E7301-A291-4F6F-9C0D-8A4CA90D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D8FA2-EFE7-4DC0-B2E8-0484D355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6647D-DDB5-4BC8-987A-5B010147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61BF2-5274-4F61-BB78-3ED97D13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A8327-F185-4B33-A014-8C8EE950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EC009-281D-4556-9BAD-8541FA8A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D51BF-52BB-40AB-8511-4CE2CCF5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3980-668D-4EF4-B14E-22DEC8B3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1326E-68BF-4301-B19D-300E6483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53D56-11C2-4B61-94E3-0C936909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CF0FB-7160-4808-8BC0-F121E170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4C8-D3A2-40BA-83C6-112AF31B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8BB-25C0-4868-9AF7-D0532614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7D45-61DC-4EEA-A7E2-465883A1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24F7-E101-4E19-8BEF-3FBE2E1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FE2A-4B7F-46BD-84A4-133E444E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E1C5-A04F-4EF3-9922-ECA8A441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5E98-45C6-4A73-9479-E16C5699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F93A-F539-44E8-BECB-231BC7C3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2EC9-4EC2-4F7B-BC4D-4BD1F04E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218F-0A82-4896-B0E3-B11E32C3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092B-0C53-46E3-B00E-FA0F627D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DE9-90A5-438D-9953-C2747468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3247-31B3-4260-B850-5B657462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24DC-EABB-4FB7-8828-61DD7E29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CA75-B90E-4FF8-8DC0-5CCC94C2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8B23-1935-4578-9778-64201522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D8BF-BCBA-4619-8FFD-DA92B900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1C00-80DC-402B-B956-9824C4F0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4074-DC04-49E3-9B8D-F9BF5576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F470-75AA-4CF9-911B-7B2C2DD5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89F6B-579D-41CB-BE6B-21FECB35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3297-AA57-4AB1-8431-CC901B5D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8D8-6DF1-4685-B929-6D79149C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612E-F495-4DD1-B031-50752BD9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A615E-8282-4FB9-877A-0A136E29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6204E-193C-4006-AC88-23DBF7A9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90DF-1525-4874-944C-2732C5A4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F8B6-6768-4907-AF4D-686E731D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134D2-4F1F-4480-A081-2B74410B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02EAC-490C-4E9B-A26B-4B2E91CF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DB39C-9927-48BA-97D1-DC78FA63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6E6B3-342C-425F-B6F9-7BDF9342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2AF78-1C8A-4452-946D-A3415FA0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913-E59C-4245-99A6-A0C3F53D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2798-F433-4B85-9545-E846FA7C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8FC39-9FCD-493D-BB28-8D98DCA3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748D4-A165-4B5B-AE75-4219F982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8237-DA96-4E59-BCFC-00D7F729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20901-FF94-412F-A6BA-F0F2ABEF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D4AC8-7419-42DB-ABB7-2D1B83F9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E457-5397-43F5-87D9-C4E443F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88424-D1C7-4A3A-80B9-13802112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199E0-9368-4B5C-9906-9E451702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7E647-76C0-453C-9FB2-1C8210CD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C74-158B-4853-9C0A-85AB03EB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136F9-8CEA-43DD-BE74-E186F81F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8C0C2-0677-4AD1-B653-140A6F54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4A4F-DCBF-484E-BE01-5636EBB0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13D58-C3A4-4896-8D8D-E4491140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92031-1183-45BC-ACD0-3906F012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8B3A0-2EB2-473B-A40C-035C171F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3C1F-CFA4-4974-87E4-63F3A084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F61BE-A44E-4A63-AF67-09F65FDC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B3DDB-DAAC-4D2E-9C7F-65C4E659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C1707-79F1-437E-82C8-59FC8D86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661-4ADF-462A-98C8-3D211C5B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9D8C3-C14B-40E4-8978-8DE3C960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B8890-5719-4229-B880-087E329E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5F322-2070-484B-84DB-E428CCDB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15BA-DC3C-4BF9-B753-99E869FB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AE43E-0BD4-44B0-916B-7DCAFDBB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7C94-0C13-4A8E-8098-6ABBF3B0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E48B6-3014-486B-9A08-E9DE96EF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86431-DB24-48F6-A205-1F04F280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5F3CD-B9A6-4759-BE64-98D1F770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9CF89-4023-4ADD-87A5-C4634FE9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8E3-869D-4430-A6FD-B7F20254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F679B-9289-42FB-A096-C49E2676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E7523-7F0D-4095-9B44-15412ADE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0D530-68ED-4859-A0DC-7AC82318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0466F-7AE3-4C84-A418-B93BFFDA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3F95-6322-46D7-AC00-BD51F894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C778C-F748-4A51-A585-6F37DB8F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37AD7-8052-4BF2-937F-14878BA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49271-877C-4898-99E0-3DB4687F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ED317-AF48-43A2-8053-4806A5E3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50C5C-9298-42B3-93E3-DCAF873C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63E-A69B-41A5-817A-D49E3E19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8AB47-E500-4A94-B487-C73F4EBD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AED21-7676-4A9D-B9C5-3F274E84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42A99-4CA4-4FF5-AE5B-D164300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3555D-90AF-4E1C-BD7E-7C193DC6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6C8EB-78C5-4EC2-A2E3-ACE7C2AA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4553C-CA01-4631-9135-EB0A410F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ACD0B-A03B-402C-A7B1-39877C93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3C979-BA76-4020-901F-0F37A9AB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781A2-8F77-473E-8428-9D6612D3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DD9BF-EFF7-48A0-90DA-42C47885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268E-5EAE-4280-90A9-D7C25F173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2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2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3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2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3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E42B-9FA2-4DDA-91D9-E23E2822D16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F03D-E013-4235-942B-52678EE25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6590-6799-47D7-8BD6-15F3DE4E5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8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8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420F-2D1E-430F-B65E-04E5675AEA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3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4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4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FEC4-8508-4DF4-B4CC-ED672654B7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EB78-BE1F-4D03-981A-3142A887A1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D96B-DC9A-43AD-84AD-3CB206C0BA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FA39-AF99-4F3F-8BAE-0958E134A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3CF3-35CC-410D-B0DB-EEAE8F6039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9A99-7370-4EA7-AAB9-8A7185F246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599D-6A13-4E5F-9FC1-073D14F4AF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A680-F2F6-435C-AED2-5B164B2422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966F-E027-4D55-AAB0-CFD45D7D1D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5287-27C9-4D7B-81BE-114E01B841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4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4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9040-B47D-4C94-A5D1-AB8A4B0D298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hyperlink" Target="http://www.google.com/imgres?imgurl=http://www.lykhin.com/mobilephoto/wp-content/uploads/2007/11/sbsh0225.jpg&amp;imgrefurl=http://www.lykhin.com/mobilephoto/belgorod-russia-central-market/&amp;usg=__jwqR8gqz3ojPQrnDU-TKswrkg1U=&amp;h=338&amp;w=450&amp;sz=154&amp;hl=en&amp;start=2&amp;zoom=1&amp;itbs=1&amp;tbnid=Ssk1JMEe3gdh9M:&amp;tbnh=95&amp;tbnw=127&amp;prev=/images%3Fq%3Drussia%2Bmarket%26hl%3Den%26gbv%3D2%26tbs%3Disch: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nap ITC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nap ITC"/>
              </a:rPr>
              <a:t>ENJO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Ravie"/>
              </a:rPr>
              <a:t>Problems/Solution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empus Sans ITC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Gold and fish are both found in South Easter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oal is a major resource and is found in the cold parts of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Russia is one of the leading oil produc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Juice ITC"/>
              </a:rPr>
              <a:t>Command V.S Free Mark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controls what you sell and the price of your goo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economy has impacted a few countr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Free Market lets you choose the products you sell and your pr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A lot of countries have free market econ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3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ussia’s type of Econom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Russia had a command and globally isolated economy. There was many people in pov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Russia is more based on free market and globally integr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301680" y="3963600"/>
            <a:ext cx="8540640" cy="213516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4343400" cy="213336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3962520"/>
            <a:ext cx="41814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Russia has increased in wealth 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Important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Russia exports petroleum, natural gas, wood and met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Kristen ITC"/>
              </a:rPr>
              <a:t>CREDI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Designed by Alex, Mario ,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yped by Alex and Mar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Research by Alex, Mario ,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Kristen ITC"/>
              </a:rPr>
              <a:t>sponsored by breakfast ,lunch, and dinner foods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Kristen ITC"/>
              </a:rPr>
              <a:t>With technical support from Liam Rogers and Anthony Fong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1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20T18:43:18Z</dcterms:modified>
  <cp:revision>14</cp:revision>
  <dc:subject/>
  <dc:title>Russia’s Economy</dc:title>
</cp:coreProperties>
</file>